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9F7-EA17-4AD9-9550-7805A1EF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2DD-A344-437B-A95B-3B82CB49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BB0-A727-4C90-AABF-CBAB2CA1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AF0-ACAC-43BC-ABBA-4EAA2E9B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E909-05C3-4E39-A350-D198216B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A9EC-DA29-446A-8185-4B99B08B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E09D-9A59-4007-BC96-4CF77528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4959-334E-42E7-B044-6119E319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6F1C-1B1E-4376-B26E-0A2F3B14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9A08-7E97-4631-A023-BDBB8ED2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04DC-1661-412A-95B8-C70874F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297-AC6A-458E-BCEF-DEC58A27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B6F5-C383-4B4C-8507-F7C232EC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E4DA-415F-4257-A6B9-91D4E720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7604-797E-4C62-9B43-01D00986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E27B-8606-4E01-9B97-4478DB9B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3F24-05A2-446D-A75E-9195EB15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9855-9816-47B5-945A-FA52C9FA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C0DF-38CE-4D5E-8760-1E9757A4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174D-08B5-4F27-9E17-C31473E0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2E68-BEDD-4BA9-BBDC-D7B205DE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DAB3-F637-4642-867A-8D5AE980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E6D-4678-4E27-94AD-03A65DBD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DA45-7498-480A-9E4C-07E3387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E673-C0EC-48F0-8E87-BEFAAF34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3A4F-611D-48DF-9AA9-AC9EFE27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23E5-A35F-4661-A4AF-174A093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07ABE-697D-4E57-8FBB-65FAD18D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6AFF-7F6A-4FE1-9667-EAD52338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A1A9-73FE-48D6-B636-7519C900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37A1A-F3C1-4D0C-93C9-A55106F1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D757-BCE1-4AD1-9E3A-98A1CCF3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B8E8-CDA2-4045-BA74-009EBE49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809-1420-40B4-8D6A-6E4B6BF1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BE26-E1DD-48C2-9806-13E05A43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5901-0B02-43AA-8BC6-7DEEA04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D1E8-24D9-47F6-A6EF-D6A007B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FD84-E5CF-453C-B741-52BA620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0DC47-4D75-46E6-9408-C9B31A2F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77A4-C51B-48CC-9807-0025517F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F31B-41D8-4705-8378-B3648272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C77F9-F2BF-42A9-99B9-718E78EF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A16F-0DF3-4A68-BAAA-69657411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7DC6-9DAE-4111-8629-FAA9A355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1A1-D489-4768-B31E-A9B9CBAA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FD68-01A8-4C74-A894-1D5806A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0EE3E-A721-4FC1-ACCA-E455209A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717F9-0B11-4A42-95C3-900B8CB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F515-EE3F-4718-880B-1D395D99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9C38-4688-44ED-A898-21F1873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D4E76-445A-447A-8B19-50EC3EC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C6C9-D191-499C-B4D4-AD62352B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00D4-E187-44E5-9550-C7A4C3D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AB7D-9648-4428-9DC3-C5ECAE27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7BC3E-4033-41F8-9FA6-3837CA04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AA1-C553-4915-91A7-BDA0CB9D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A101C-FA20-409F-BCE3-4FA54545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B163-858E-479F-9CCA-346A2EB4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A8C54-7D1E-410A-833E-A61D704E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1F4E-E843-4136-A609-E74A851A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D0209-858E-40FA-B160-31CD29D0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F04A6-39F9-40B0-8024-8B4F7352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9BA96-F108-43B9-B423-E29728E3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E5068-3C79-49CE-B32E-36A8630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1558-CC29-419D-BEBE-BCE57FAD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4195D-4DC3-4B03-A9BF-AEC2B539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7E2-6C9B-4F1E-96BB-B0AF28C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2CE4-E157-49B0-BD8C-B98F8D5F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A4F7-BE6C-4F79-B47B-EA33785C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ABEA-EDE5-462A-8077-3713F19B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E67-06C1-447D-B8BB-38F68E3F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399-6294-4CE8-83BA-E73551B1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145F-B0F2-4055-A194-AF169363688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52B4-1BF9-4D92-8E61-D8EE2304D21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3A3-6A01-4F1E-B458-EB9FA6EC945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A35E-957F-46DA-958B-E39AE01FC21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D43F-5B19-4A3F-B546-3E9476DB0DB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6EEB-B1E5-472A-ABA8-99F129695B5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907920" y="1006560"/>
            <a:ext cx="6834240" cy="2442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ime Chang Personal Information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ersonal Inform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me: Jaime Cha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e: 28 years 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x: M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ce: Hispan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igion: Catho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tal Status: Sing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lace of Birth: Guayaquil-Ecuad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duc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ol: I.P.A.C 1987-199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 School: I.P.A.C. 1994-2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ge: Cambridge College 2006-20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rk Experien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ene’s - Sales Associate 2005-200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ychex – Distribution Specialist 2006-200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nkidz – Account Manager 2008-Cur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exel – Clinical Studies 2009-20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bb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c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nn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uit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ian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ial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la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m: Ivonne Espino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d: Jaime Chang S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other: Fabian Negre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sters: Maria F. Chang, Silvia Chang, Angeles Cha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ece: Valentina Davil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other in law: Pablo Davil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ecta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raduate ASA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row as a professi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create a fami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share what I’ve learned in the US with those in Ecuad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ack home (Ecuador) and help those in ne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7:10:26Z</dcterms:created>
  <dc:creator>training</dc:creator>
  <dc:description/>
  <dc:language>en-US</dc:language>
  <cp:lastModifiedBy>training</cp:lastModifiedBy>
  <dcterms:modified xsi:type="dcterms:W3CDTF">2010-10-17T17:34:11Z</dcterms:modified>
  <cp:revision>3</cp:revision>
  <dc:subject/>
  <dc:title>Informaion Literacy</dc:title>
</cp:coreProperties>
</file>